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CFD-4C5C-4F90-8C42-EC8B5DB5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1FD-EBAE-469F-952E-0EBF8388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86E-F25F-42F8-B75D-59066AEA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416-94FA-46D5-8D3B-DA9654A6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2EC-B0A0-4D50-B739-3CD673BC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67A-15AD-4C0C-9C2A-16411CD9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50C-09CD-438B-92E3-4912112C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7F8-6CF6-4DE0-97B3-5A23CFC7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B0C-1E53-41BC-92AA-2F3C81EB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D38-6369-4676-ABE5-EEE9BD46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337-03D9-4AB4-9295-7A9DDE86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E19-E94C-477E-AB61-59FF94E7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4A18-1AEC-4F21-8211-9F831883A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c/c3/37_Lyndon_Johnson_3x4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imdb.com/rg/mediaindex/thumbnail/media/rm1416206336/nm0000069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imdb.com/rg/mediaindex/thumbnail/media/rm1503631360/nm0000054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hyperlink" Target="http://z.about.com/d/womenshistory/1/0/z/I/jackie_kennedy.jpg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1.jpeg"/><Relationship Id="rId14" Type="http://schemas.openxmlformats.org/officeDocument/2006/relationships/image" Target="../media/image5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time.com/time/2003/jfk/photoessay/2.html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time.com/time/2003/jfk/photoessay/5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time.com/time/2003/jfk/photoessay/2.html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hyperlink" Target="http://www.time.com/time/2003/jfk/photoessay/3.html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time.com/time/2003/jfk/photoessay/6.html" TargetMode="External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ile:37 Lyndon Johnson 3x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rank Sinatra, portrait for Kings Go Forth, 1958.&#10;Vintage silver gelatin, 7x13.5, signed. $900&#10;Â© 1978 Bill Avery&#10;MPT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c. 1953&#10;Photo by Frank Powoln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Robert F. Kennedy - Photo"/>
          <p:cNvPicPr/>
          <p:nvPr/>
        </p:nvPicPr>
        <p:blipFill>
          <a:blip r:embed="rId9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A picture of First Lady Jacqueline Kennedy, wife of President John F. Kenned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Robert Frost"/>
          <p:cNvPicPr/>
          <p:nvPr/>
        </p:nvPicPr>
        <p:blipFill>
          <a:blip r:embed="rId12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Robert F. Kennedy - Photo"/>
          <p:cNvPicPr/>
          <p:nvPr/>
        </p:nvPicPr>
        <p:blipFill>
          <a:blip r:embed="rId14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resident Kennedy, head and shoulders portrait photograph, looking up. Photograph distributed by the White House. "/>
          <p:cNvPicPr/>
          <p:nvPr/>
        </p:nvPicPr>
        <p:blipFill>
          <a:blip r:embed="rId15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3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6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590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the Missionaries of Charity in Calcutta, India, 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 – won Nobel peace Pr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 – Awarded Bharat Ratna in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28 – Joined the Sisters of Loreto as a missio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2 – Opened the Kalighat Home for the D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5 – Opened the Nirmala Shishu Bivhan for orphans and homeless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 – Negotiated a  cease-fire between Israeli and Palestine armies to rescue 37 children from a devastated 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1 – Opened Missionaries for Charity Brothers in 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3 – Suffered heart attack while visiting Pope John Paul II in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Frisco ISD</cp:lastModifiedBy>
  <dcterms:modified xsi:type="dcterms:W3CDTF">2010-01-21T21:59:46Z</dcterms:modified>
  <cp:revision>16</cp:revision>
  <dc:subject/>
  <dc:title>Profile</dc:title>
</cp:coreProperties>
</file>